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602-4381-4EF3-ACA9-ECD01AC7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D94-4D61-4C31-97C3-52B22803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6B1-9DD7-4C2D-A068-3DFD3DE1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314-A7E7-4238-B735-706A09B6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E08E-95C5-4650-82AE-FAD9EF7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755-2E8C-45BC-A827-7A9D6523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FBD-558B-4488-9A03-3C8DA47A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8B24-6ED2-4BCF-9116-96EA999E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11D7-1D1E-44E7-8646-35D19E5D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9633-FD40-4371-B989-95064597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42CF-C55B-4F12-A481-D9F5675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7A5-A1FA-483A-8E93-CAF59D7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DB2-9A43-4A67-A304-C94640D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BC6-6D3C-420A-B0B6-DE63A8CE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D5E5-FAD3-494E-A916-D3AFB167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4B7C-7F83-41F8-B7AD-4E771DB9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E94C-6D44-4D83-9684-919DF5E7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0722-1F66-40D5-9AD1-5C9C9BA0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C0BE-45E9-42CB-BFD5-E235C15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C5AB-0F5B-4964-A061-1889236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1F77-43E6-4B21-90C8-308898AE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5479-A23E-43C6-8BAF-37EC6E7A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501-5C2D-4FC5-9EAD-6A4C6093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519F-44B5-46E6-BA7D-E22D4841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F4B4-2934-4523-9664-14E886FC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707A-A9CD-45D9-ADD1-941C243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93E0-0974-4C7B-B411-AE0B1E4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711E-937B-4F1A-904B-76B4F134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D922-48BF-427F-82F6-BEE98891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F4CD-0BB2-4ABA-AEE7-4DA212A9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3D26-3228-4FDE-8326-BD4128E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EE4B-6919-4AD7-A3A8-33E34AE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2EB2-206D-4E88-A0F0-565788E4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B9F-38A4-48F3-A4D0-C1B7D573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C8A5-9E4D-4708-9BFC-3B899B1C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8C5A-60A5-4889-88AA-D8DE7F8E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1C02-559D-4150-9016-2C181642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57C4-4FF1-48AF-B290-822BA54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10D5-871C-4751-9B94-2F6F4AA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2F18-A020-4A5F-83B1-A54DB5A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506D-0F77-407D-8E97-D7DF7B88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D817-BAA0-40D4-B114-9C479FF3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B114-F186-4A65-A616-A780A923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2897-89D3-4E35-B6E1-51885653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90E-1EB2-4542-8198-3327F6A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51CF-DD1B-4585-B273-B798C90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AF497-BC0E-4B1C-BCB0-5B1E9051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1F1EA-F28F-4B4E-A70C-C5A99DB9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1088-B6F5-4B86-A20C-BD05F21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3AEB-8033-4D9A-9771-59ADE77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9D2E-9818-47F5-A221-335DD9E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1CBE6-C4A2-492F-BD26-22BA19A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CD62-ED73-4B85-8034-4C4779E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160C-45C1-4526-BBBF-6B344EF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5CDA-43A2-49A1-A1E2-9747087C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EEF-0CCD-42D7-840F-90449F50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752F-9A43-4442-8020-E5464D1C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B3E6-6B3F-408C-BD8F-A58DDC5B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1B91-0940-4C9A-9B74-1E4FC4EF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0AC4-D553-488B-BDA8-802B730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4894-64CF-4E4B-879B-081299B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0D19-8AAD-40B8-8FB8-C7FB7973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FFDF-E4FC-40CB-80C2-29C1F4BA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A750-8B16-46F0-9EBC-2E9D0824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13F31-3D59-4386-B143-C0B918C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8C32-6628-4AEE-9784-7833DF8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C78-06B6-4C78-833F-49D1F47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38B8-7FC2-4996-8FB4-D449A276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7525-7951-40E3-82F7-FB630CBB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783B-3AFF-4D17-844E-EA756664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5A0-7607-4393-9B4B-56BF7F5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FBF-2C42-4135-A49F-0A30C27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D03-2045-4E87-AE60-A6F11365602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C76-A3E4-4137-8B7D-737E0E8C4C65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A55-0CBD-471E-82C1-5FC886EC2538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C65-A238-46D3-8833-A9323BD32A6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1133-F7D7-48CB-8501-A1A413678E06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EDA2-0F16-4058-B3F6-F43B9B61ADB3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1714320"/>
            <a:ext cx="8028000" cy="29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: «Дифференцированный подход  в обучении и воспитании детей с особыми образовательными потребностями                         в МКОУ ДО ДДТ ст. Старолеушковской»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71360" y="4286160"/>
            <a:ext cx="807228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А.Тарельнико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ДО ДДТ ст. Старолеушковск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г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042920" y="115920"/>
            <a:ext cx="8101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дополнительног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 «Дом детского творчества» станицы Старолеушков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Павловский район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791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о-педагогическая диагностика,                          обеспечивает:</a:t>
            </a:r>
            <a:br>
              <a:rPr sz="40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28800" y="142848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воевременное выявление детей с ограниченными возможност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ыявление особых образовательных потребностей детей  с ОВЗ, обусловленных недостатками в их психическом развит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пределить оптимальный педагогический маршру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планировать коррекционные мероприятия, разработать программы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ценить динамику развития и эффективность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ультировать родителей ребен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ниторинг детского развития включает в себя:</a:t>
            </a:r>
            <a:br>
              <a:rPr sz="3200"/>
            </a:b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34960" y="1714320"/>
            <a:ext cx="74995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ка психического разви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ояние его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общих способносте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х, коммуникативных                                                                                и регуляторны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71360" y="78588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коррекционно-развивающ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здание условий д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го развития ребенка 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ми образовательными потребностями для обогащения его социального опыта и гармоничного включения в коллектив сверстни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2143080" cy="18576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999720" y="356760"/>
            <a:ext cx="7929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новные принципы                             коррекционно-развивающей                                 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интересов ребенк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н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ерывн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положительного эмоционального самочувствия всех участников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ый подход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ение педагогического так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971640" y="359280"/>
            <a:ext cx="79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ыми приемами коррекционного воздействия на эмоциональную и познавательную сферу детей с  ОВЗ в развит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ситу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ие игры, которые связаны с поиском видовых и родовых признаков предм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тренинги, способствующие развитию умения общаться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имнастика и релакс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60284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ятельность образовательного учреждени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лжна быть направлена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f06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оздание условий для получения доступног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ребенком с проблемами в развитии, независимо от уровня способностей, образовательных потребносте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f06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реализацию потенциальных возможнос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 в доступных формах обучения, видах деятельности.</a:t>
            </a: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Times New Roman"/>
              </a:rPr>
              <a:t>Специальные условия должны быть  созданы в детских дополнительных образовательных учреждениях.</a:t>
            </a:r>
            <a:endParaRPr b="0" lang="en-US" sz="2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71720" y="2214360"/>
            <a:ext cx="76435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использование специальных дополнительных образовательных общеразвивающих программ и методов обучения и воспит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пециальных учебных пособий и дидактических материал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пециальных технических средств                           обучения коллективного и                              индивидуального поль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творческой деятельности посредством которой происходит формирование лучших  качеств у детей с особыми образовательными потребностями       </a:t>
            </a:r>
            <a:br>
              <a:rPr sz="39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85520" y="242892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Художественно-эстетической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Физкультурно-спортивной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Культурно - досугово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99720" y="357120"/>
            <a:ext cx="79297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 нас задачи с вами очень сложные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усть на дворе и 21-й век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о в век больших технических возможностей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 первом месте все же человек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 любых делах, проблемах, начинаниях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Роль первая ему отведена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А, между тем, и помощь, и внимание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И добрая поддержка всем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 том стоит вся сфера социальная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б вовремя помочь и подсказать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ого-то поддержать материально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ому-то слово доброе сказать.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Picture 2" descr="http://ns2.mir-konkursov.ru/userfiles/29.png"/>
          <p:cNvPicPr/>
          <p:nvPr/>
        </p:nvPicPr>
        <p:blipFill>
          <a:blip r:embed="rId1"/>
          <a:stretch/>
        </p:blipFill>
        <p:spPr>
          <a:xfrm>
            <a:off x="6215040" y="4500720"/>
            <a:ext cx="2643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644480" y="221472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СПАСИБО  ЗА 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4071960" y="3429000"/>
            <a:ext cx="221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74343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Формирование системы общих взглядов и мотивации педагогического коллектива, обеспечивающих успешность образовательно-воспитательной деятельности и социализации детей в соответствии с требованиями  образовательных стандартов  учащихся с ограниченными возможностями здоровья и умственной отсталостью. Создание необходимых условий для адаптации образовательного пространства дома детского творчества нуждам и запросам каждого участника образовательного процесса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3857760"/>
            <a:ext cx="74995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ть единую доступную образовательную среду для каждого ребе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овать систему эффективного педагогическ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я процесса инклюзивного образов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сить квалификацию педагогических работников для обеспечения инклюзивного обуч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клюзивное (включенное) образование.</a:t>
            </a: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клю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не значит просто собрать все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учу», чтобы каждый ученик чувствовал себ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ым, чтобы его способности и потреб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лись и были оцене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инклюзии в том, что система обучения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 подстраивается под ребенка, а не ребен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истему. Инклюзивное образование – эт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особенностей развития ребенка и 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к обучению, которое ведется способ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дходящим каждому ребен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71360" y="213840"/>
            <a:ext cx="768636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дети с особыми образовательны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требностями нужд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огащении опы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го и учебного взаимодействия со свои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 развивающимися сверстник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ому ребенку необходимо подобр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ую и полезную для его развития мод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го обучения, сохраняя нужну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педагогическую помощ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95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Times New Roman"/>
              </a:rPr>
              <a:t>Основные категории детей с ОВЗ: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</a:rPr>
              <a:t>(по классификации В.А.Лапшина Б.П.Пузанова)</a:t>
            </a:r>
            <a:endParaRPr b="0" lang="en-US" sz="2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слуха (глухие, слабослышащи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днооглохш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зрения (слепые, слабовидящ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речи (логопаты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поведения и общ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комплексными наруше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физичес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, с так называемыми сложными деф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лепоглухонемые, глухие или слепые дети 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ственной отсталостью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928800" y="115560"/>
            <a:ext cx="8215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пециальные условиями реализации                  обучения и воспитания детей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особыми образовательными потребностями.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пециальные дополнительные общеобразовательные общеразвивающие програм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зличные методы обучения и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пециальные учебные пособия и дидактически материал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ециальные технические средства обучения коллективного и индивидуального пользо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редоставление услуг ассистента (помощника), оказывающего учащемуся необходимую техническую помощ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роведение групповых и индивидуальных коррекционных заня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934160" y="60930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ществуют три модели интегрированного обучения:</a:t>
            </a:r>
            <a:br>
              <a:rPr sz="4000"/>
            </a:b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00080" y="128592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ая и комбинирован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в одной группе, осваивая образовательные программы, совместно обучаются дети с ОВЗ и нормально развивающиеся де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ч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казана детям, которые                по тем или иным причинам не способны овладеть образовательным стандартом, поэтому они   вливаются в группу на часть д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полагает объединение всех воспитанников группы компенсирующего назначения с типично развивающимися дошкольниками не реже двух раз в месяц для проведения различных мероприятий воспитательного характе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ы деятельности: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0080" y="1357200"/>
            <a:ext cx="7934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бщепринятых методик и методических пособ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литература содержит информацию об общеизвестных низкоэффективных методиках, существующих достаточно дав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ватка материальных ресурсов для приобретен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 технических  материа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000080" y="357120"/>
            <a:ext cx="7934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и дополнительного образования важ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 сочетать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й и дифференцир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нный подход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ствует тому, чтобы вс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нимали участие  в жизни коллекти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фференцированный подход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роцесса, при котором максимально учиты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ются возможности и запросы каждого ребёнка и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х групп учащих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дифференцированного обуч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омфортной среды для обучения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личности с учётом индивидуаль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х особеннос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05:11Z</dcterms:created>
  <dc:creator>Брызгалов</dc:creator>
  <dc:description/>
  <dc:language>en-US</dc:language>
  <cp:lastModifiedBy>Анна</cp:lastModifiedBy>
  <dcterms:modified xsi:type="dcterms:W3CDTF">2019-08-26T13:19:15Z</dcterms:modified>
  <cp:revision>292</cp:revision>
  <dc:subject/>
  <dc:title>Система тактических установок        по реализации мероприятий                на базе стажировочных площадок по направлениям задачи 1   Федеральной целевой программы развития образования  на 2011- 2015годы</dc:title>
</cp:coreProperties>
</file>